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D229E37E-F474-49CB-BD57-26EA0B95AC1F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RCOT Project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5360" y="1093680"/>
            <a:ext cx="5400720" cy="5116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e the generation of the 997 Report from within ERCOT from the source system (time savin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V Report format to allow choice of configurable database lo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to provide DDL for Table Schema configuration if a Market Participant chooses to load reports into table for efficient querying and data repor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sh Reports to TML Report Explorer consistent with other ERCOT provided re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 1 report that provide detailed information pertaining to “Missing” 997s from Market Participant to ERC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a Market Participant’s “Missing” 997 report contains data, it will be archived and delivered to the Portal for distribution to the appropriate Market Particip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ERCOT is delinquent in responding to a Market Participant’s transmission with a 997 Functional Acknowledgement, a “Missing” report will be generated, archived, and emailed to ERCOT’s Internal Paperfree Support mailbox.  Market Notice must be delivered for any these generated re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10120" y="1093680"/>
            <a:ext cx="3081600" cy="55260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P to determine what the reprocessing timeframe is for determining the reporting perio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320" y="789120"/>
            <a:ext cx="40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R 7013 – 997 Report Enhancement 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22360" y="35812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05440" y="1943280"/>
            <a:ext cx="26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/3/2005 Recomme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23080" y="812880"/>
            <a:ext cx="2179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/13/2005 Action 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3440" y="1824120"/>
            <a:ext cx="312444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43440" y="3476520"/>
            <a:ext cx="34005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43440" y="914400"/>
            <a:ext cx="0" cy="5486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0"/>
            <a:ext cx="294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R 7013 – 997 Report Enha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23080" y="2247840"/>
            <a:ext cx="3068640" cy="109548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t DEWG recommendation to move forward on this effort. (Yes / N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y recommended chang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8960" y="338040"/>
            <a:ext cx="617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Analy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pe Satterfield  512-248-6522  hsatterfield@erc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910120" y="3886200"/>
          <a:ext cx="3081600" cy="2049480"/>
        </p:xfrm>
        <a:graphic>
          <a:graphicData uri="http://schemas.openxmlformats.org/drawingml/2006/table">
            <a:tbl>
              <a:tblPr/>
              <a:tblGrid>
                <a:gridCol w="824040"/>
                <a:gridCol w="590400"/>
                <a:gridCol w="676440"/>
                <a:gridCol w="990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0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5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DEWG recommend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2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8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8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w 997 Repor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397160"/>
            <a:ext cx="624852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ma delimited file containing the following columns for each 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s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 FA transa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nder D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eiver D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SA Control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S Control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 Count Mi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act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039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hsatterfield</cp:lastModifiedBy>
  <cp:lastPrinted>1999-12-01T22:56:09Z</cp:lastPrinted>
  <dcterms:modified xsi:type="dcterms:W3CDTF">2005-10-27T21:14:16Z</dcterms:modified>
  <cp:revision>642</cp:revision>
  <dc:subject/>
  <dc:title>No Slide Title</dc:title>
</cp:coreProperties>
</file>